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27B78-446A-46F8-907F-874E8C8F9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E289-01BC-455C-8E5E-37BEBAD30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2CB5-9395-4338-A824-2E1224D60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EF1D-E466-4B56-B41E-E22A07501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78CCF-3A77-41A6-A029-6F4C5EDA7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8C406-B9FB-4C0B-B573-21934CBC0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7C2D-90B1-457F-8F54-0034F602C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764C-0A69-4F50-A0DA-DDA89C7CE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CD65-C445-4DD8-AEB3-C92877BA7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B046-08B7-42FB-B39F-BF18B1A60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5BD-46B4-4F45-8B2A-05C4529CA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91E57-024B-4062-ACC5-135103262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1160-913A-4BFD-8469-B4B07BAAD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FCC00-C95A-40C8-93F4-4F5D5EAB7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3E12-663F-41E9-A253-DE0204F73B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7593-8620-4749-B4D8-C020D8D8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E5038-23EB-4496-9E8E-8EA47DEA1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0FBF-3711-415F-93DA-92335FFE9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5D1F-B997-4CD2-B28C-549E0B83F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9AF8-3547-4187-B16E-F3FFF0DBB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8E76-752D-4FFE-B50E-BAA0863FF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D5A7-9B74-45CD-8211-B96965F6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BF1F-7C81-4B9C-AA54-89E787BF0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A259-1E13-4F97-A45A-FBA079649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E23F-BEDA-467B-84B7-76077E294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DBD5-213B-452C-91B1-96214EB05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324A-ECD4-40F4-BFA1-49523CD68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6392-5ED1-4816-A417-98E1FE96C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FA93-4985-4522-A181-0F7ECC7D0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ACFA0-B76E-430C-BAD5-6301A9E2C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54A7-49D6-4568-8B48-E693582A7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E8B1-8395-4285-BA7B-D619B3EAC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AD8-BAE8-4577-94A0-CC7956EE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7E0-5005-4DEB-BAE0-9558A846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EB1-90E9-4465-BCDD-77CFFDEB0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42DA-99E1-4928-8619-5D3105AE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D4B1-80A7-43D2-A095-E70919E85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B97F6-6BF4-4D4E-A550-399CA1F2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820E-5B43-4B1F-BF59-EB7296716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4AD69-EA51-4C09-9B82-E7A5794A4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18FC-96AC-4AC5-BEF6-EBA81E8EA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B336-4660-43AC-9FA4-75395D45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D903-8FDF-43CD-844A-FBF984992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D048-77DE-4634-A92F-A27405A63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3419-0BC7-4CE7-9818-426D44E7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793-A956-4283-B71F-DFEEB482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7E8C-3110-486D-8C08-DBF4C43E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4FA0-9465-48EE-B26D-1BDA6917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5A89-02E1-4878-89AD-CF60A7AF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7FBD-A5C5-4FFE-B329-E0C6FAC4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BC1-DE57-499E-B580-0337AE81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A46-419F-42DC-8FA2-2E033739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6383-86CA-4CF7-88A7-93CF7D59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341E-85E6-4A3B-BD3C-66BD230F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6B3-6AD5-4140-A709-5138E129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C380-9C6C-464D-8779-F9142F57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4E76-8961-4752-B77D-E2E35058AF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BCD2-5086-4F12-AFB3-7F636996D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bout Che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UNT NUMBER:  The number used to identify your unique account within the ban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69" name="Oval 5"/>
          <p:cNvSpPr/>
          <p:nvPr/>
        </p:nvSpPr>
        <p:spPr>
          <a:xfrm>
            <a:off x="2133720" y="5715000"/>
            <a:ext cx="144756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NUMBER:  The number used to identify a specific check within the sequence of the register.  It usually includes 3 or 4 digi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80" name="Oval 5"/>
          <p:cNvSpPr/>
          <p:nvPr/>
        </p:nvSpPr>
        <p:spPr>
          <a:xfrm>
            <a:off x="3429000" y="5715000"/>
            <a:ext cx="6094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6"/>
          <p:cNvSpPr/>
          <p:nvPr/>
        </p:nvSpPr>
        <p:spPr>
          <a:xfrm>
            <a:off x="6553080" y="3124080"/>
            <a:ext cx="6858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 NUMBER:  Used to list checks for depos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92" name="Oval 5"/>
          <p:cNvSpPr/>
          <p:nvPr/>
        </p:nvSpPr>
        <p:spPr>
          <a:xfrm>
            <a:off x="6553080" y="3352680"/>
            <a:ext cx="83844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Write Checks:  You should fill out the following 6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  Include the month, day and year you are writing the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5"/>
          <p:cNvSpPr/>
          <p:nvPr/>
        </p:nvSpPr>
        <p:spPr>
          <a:xfrm rot="20245200">
            <a:off x="7848360" y="32763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EE:  Write the name of the person or business on the lin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Pay to the order o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5"/>
          <p:cNvSpPr/>
          <p:nvPr/>
        </p:nvSpPr>
        <p:spPr>
          <a:xfrm rot="20245200">
            <a:off x="4723920" y="373356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NUMBERS:  Write the amount of the check in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5"/>
          <p:cNvSpPr/>
          <p:nvPr/>
        </p:nvSpPr>
        <p:spPr>
          <a:xfrm rot="20245200">
            <a:off x="7848360" y="37335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WORDS:  Write the amount in words.  Start at the left, write any cents as a fraction, and draw a line in the extra sp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 rot="20245200">
            <a:off x="1219320" y="403812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066680" y="4343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fty-Five and 63/100 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  Sign all checks the way you sign the signature c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5"/>
          <p:cNvSpPr/>
          <p:nvPr/>
        </p:nvSpPr>
        <p:spPr>
          <a:xfrm rot="20245200">
            <a:off x="7467480" y="502884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9/15        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hletic Shoe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1066680" y="4343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y-Five and 63/100 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5181480" y="54100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Brush Script MT"/>
              </a:rPr>
              <a:t>George Washington Do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:  Use the memo area to note the reason for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240" name="AutoShape 5"/>
          <p:cNvSpPr/>
          <p:nvPr/>
        </p:nvSpPr>
        <p:spPr>
          <a:xfrm rot="20245200">
            <a:off x="3276360" y="51051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62485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/04        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2209680" y="40384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n’s Clothing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68580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1066680" y="43434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y-Three and 28/100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5181480" y="5410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 MT"/>
              </a:rPr>
              <a:t>Megan 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1676520" y="54100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h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include the following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Register:  Don’t forget to balance your checkbook by filling out the check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4" descr="Check Register"/>
          <p:cNvPicPr/>
          <p:nvPr/>
        </p:nvPicPr>
        <p:blipFill>
          <a:blip r:embed="rId1"/>
          <a:stretch/>
        </p:blipFill>
        <p:spPr>
          <a:xfrm>
            <a:off x="838080" y="2895480"/>
            <a:ext cx="62992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 (or Debit) is money taken out of your account.  It is subtracted from the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Check Register"/>
          <p:cNvPicPr/>
          <p:nvPr/>
        </p:nvPicPr>
        <p:blipFill>
          <a:blip r:embed="rId1"/>
          <a:stretch/>
        </p:blipFill>
        <p:spPr>
          <a:xfrm>
            <a:off x="838080" y="2895480"/>
            <a:ext cx="6299280" cy="297180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9"/>
          <p:cNvSpPr/>
          <p:nvPr/>
        </p:nvSpPr>
        <p:spPr>
          <a:xfrm rot="20245200">
            <a:off x="7162920" y="358092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 rot="5400000">
            <a:off x="4343040" y="472428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7315200" y="4648320"/>
            <a:ext cx="1066680" cy="147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500.00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 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55.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444.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osit (or Credit) is money put into your account.  It is added to the Bal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Check Register"/>
          <p:cNvPicPr/>
          <p:nvPr/>
        </p:nvPicPr>
        <p:blipFill>
          <a:blip r:embed="rId1"/>
          <a:stretch/>
        </p:blipFill>
        <p:spPr>
          <a:xfrm>
            <a:off x="838080" y="2895480"/>
            <a:ext cx="6299280" cy="297180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5"/>
          <p:cNvSpPr/>
          <p:nvPr/>
        </p:nvSpPr>
        <p:spPr>
          <a:xfrm rot="20245200">
            <a:off x="7238880" y="40381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"/>
          <p:cNvSpPr/>
          <p:nvPr/>
        </p:nvSpPr>
        <p:spPr>
          <a:xfrm rot="5400000">
            <a:off x="5181480" y="5334120"/>
            <a:ext cx="1067040" cy="304560"/>
          </a:xfrm>
          <a:prstGeom prst="leftArrow">
            <a:avLst>
              <a:gd name="adj1" fmla="val 50000"/>
              <a:gd name="adj2" fmla="val 875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7315200" y="4648320"/>
            <a:ext cx="1066680" cy="1477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$444.37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285.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729.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Rules About 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2 Rules About Check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write checks when you have enough money in your accou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checks legib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he check amount as far to the left as possib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us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rite che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2 Rules About Check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erase mistakes on a che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sign blank chec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restrictive endorseme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the right date on a che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12 Rules About Check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keep checks in a safe pla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oy voided or unused checks and deposit sli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every transaction in the checkbook regi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ep a running balance in the checkbook regis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to Cash a Che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to Cash a Check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 ENDORSEMENT: Sign your name the same way it is written on the front of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Check Back"/>
          <p:cNvPicPr/>
          <p:nvPr/>
        </p:nvPicPr>
        <p:blipFill>
          <a:blip r:embed="rId1"/>
          <a:stretch/>
        </p:blipFill>
        <p:spPr>
          <a:xfrm>
            <a:off x="3505320" y="3809880"/>
            <a:ext cx="2087280" cy="2133720"/>
          </a:xfrm>
          <a:prstGeom prst="rect">
            <a:avLst/>
          </a:prstGeom>
          <a:ln w="0">
            <a:noFill/>
          </a:ln>
        </p:spPr>
      </p:pic>
      <p:sp>
        <p:nvSpPr>
          <p:cNvPr id="275" name="AutoShape 8"/>
          <p:cNvSpPr/>
          <p:nvPr/>
        </p:nvSpPr>
        <p:spPr>
          <a:xfrm rot="20245200">
            <a:off x="5638680" y="35809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3505320" y="396252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George W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to Cash a Check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ENDORSEMENT: Do this when you want to give someone else the money.  Wri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pay to the order of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that person’s name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n sign i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Now that person is the only one that can cash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4" descr="Check Back"/>
          <p:cNvPicPr/>
          <p:nvPr/>
        </p:nvPicPr>
        <p:blipFill>
          <a:blip r:embed="rId1"/>
          <a:stretch/>
        </p:blipFill>
        <p:spPr>
          <a:xfrm>
            <a:off x="3505320" y="3809880"/>
            <a:ext cx="2087280" cy="213372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5"/>
          <p:cNvSpPr/>
          <p:nvPr/>
        </p:nvSpPr>
        <p:spPr>
          <a:xfrm rot="20245200">
            <a:off x="5638680" y="35809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3581280" y="4267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William J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3581280" y="3962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Pay to the order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"/>
          <p:cNvSpPr/>
          <p:nvPr/>
        </p:nvSpPr>
        <p:spPr>
          <a:xfrm>
            <a:off x="3581280" y="46483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George W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E:  Include the month, day and year you are writing the che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06" name="AutoShape 5"/>
          <p:cNvSpPr/>
          <p:nvPr/>
        </p:nvSpPr>
        <p:spPr>
          <a:xfrm rot="20245200">
            <a:off x="7620120" y="32000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to Cash a Check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VE: When you want your check to be very safe, like when you send it by mail to your bank, use this type of endors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“For Deposit Only”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hen , it can only be deposited into your account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Check Back"/>
          <p:cNvPicPr/>
          <p:nvPr/>
        </p:nvPicPr>
        <p:blipFill>
          <a:blip r:embed="rId1"/>
          <a:stretch/>
        </p:blipFill>
        <p:spPr>
          <a:xfrm>
            <a:off x="3505320" y="3809880"/>
            <a:ext cx="2087280" cy="2133720"/>
          </a:xfrm>
          <a:prstGeom prst="rect">
            <a:avLst/>
          </a:prstGeom>
          <a:ln w="0">
            <a:noFill/>
          </a:ln>
        </p:spPr>
      </p:pic>
      <p:sp>
        <p:nvSpPr>
          <p:cNvPr id="287" name="AutoShape 5"/>
          <p:cNvSpPr/>
          <p:nvPr/>
        </p:nvSpPr>
        <p:spPr>
          <a:xfrm rot="20245200">
            <a:off x="5638680" y="35809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3581280" y="42670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George W. D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581280" y="396252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0000"/>
                </a:solidFill>
                <a:latin typeface="Brush Script MT"/>
              </a:rPr>
              <a:t>For Deposit On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EE:  Write the name of the person or business on the line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“Pay to the order of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 rot="20245200">
            <a:off x="3047760" y="3504960"/>
            <a:ext cx="1066680" cy="304560"/>
          </a:xfrm>
          <a:prstGeom prst="leftArrow">
            <a:avLst>
              <a:gd name="adj1" fmla="val 50000"/>
              <a:gd name="adj2" fmla="val 875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NUMBERS:  Write the amount of the check in number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5"/>
          <p:cNvSpPr/>
          <p:nvPr/>
        </p:nvSpPr>
        <p:spPr>
          <a:xfrm rot="19089000">
            <a:off x="7440120" y="3725640"/>
            <a:ext cx="1008360" cy="304560"/>
          </a:xfrm>
          <a:prstGeom prst="leftArrow">
            <a:avLst>
              <a:gd name="adj1" fmla="val 50000"/>
              <a:gd name="adj2" fmla="val 876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08660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7"/>
          <p:cNvSpPr/>
          <p:nvPr/>
        </p:nvSpPr>
        <p:spPr>
          <a:xfrm>
            <a:off x="7010280" y="3962520"/>
            <a:ext cx="762120" cy="685800"/>
          </a:xfrm>
          <a:custGeom>
            <a:avLst/>
            <a:gdLst>
              <a:gd name="textAreaLeft" fmla="*/ 111600 w 762120"/>
              <a:gd name="textAreaRight" fmla="*/ 650520 w 76212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IN WORDS:  Write the amount of the check in wor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5"/>
          <p:cNvSpPr/>
          <p:nvPr/>
        </p:nvSpPr>
        <p:spPr>
          <a:xfrm rot="20245200">
            <a:off x="1981080" y="4038120"/>
            <a:ext cx="1067040" cy="304920"/>
          </a:xfrm>
          <a:prstGeom prst="leftArrow">
            <a:avLst>
              <a:gd name="adj1" fmla="val 50000"/>
              <a:gd name="adj2" fmla="val 8748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  Sign all checks the way you sign the signature car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/>
          <p:cNvSpPr/>
          <p:nvPr/>
        </p:nvSpPr>
        <p:spPr>
          <a:xfrm rot="20245200">
            <a:off x="6172200" y="52574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:  Use the memo area to note the reason for the check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5"/>
          <p:cNvSpPr/>
          <p:nvPr/>
        </p:nvSpPr>
        <p:spPr>
          <a:xfrm rot="20245200">
            <a:off x="3048120" y="5028840"/>
            <a:ext cx="1066680" cy="304920"/>
          </a:xfrm>
          <a:prstGeom prst="leftArrow">
            <a:avLst>
              <a:gd name="adj1" fmla="val 50000"/>
              <a:gd name="adj2" fmla="val 8745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6781680" y="41148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15.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48/100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heck Wri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TING NUMBERS:  The nine-digit string of numbers used to identify your bank to process the transac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Write a Check 4"/>
          <p:cNvPicPr/>
          <p:nvPr/>
        </p:nvPicPr>
        <p:blipFill>
          <a:blip r:embed="rId1"/>
          <a:stretch/>
        </p:blipFill>
        <p:spPr>
          <a:xfrm>
            <a:off x="914400" y="3048120"/>
            <a:ext cx="7162920" cy="3055680"/>
          </a:xfrm>
          <a:prstGeom prst="rect">
            <a:avLst/>
          </a:prstGeom>
          <a:ln w="0">
            <a:noFill/>
          </a:ln>
        </p:spPr>
      </p:pic>
      <p:sp>
        <p:nvSpPr>
          <p:cNvPr id="159" name="Oval 7"/>
          <p:cNvSpPr/>
          <p:nvPr/>
        </p:nvSpPr>
        <p:spPr>
          <a:xfrm>
            <a:off x="914400" y="5715000"/>
            <a:ext cx="14479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553080" y="36576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2/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7315200" y="365760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2209680" y="41148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Elk Ridge Middle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066680" y="441972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Fifteen and 15/48 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47242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gan Nielson Handwriting"/>
              </a:rPr>
              <a:t>Megan 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1828800" y="54864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gan Nielson Handwriting"/>
              </a:rPr>
              <a:t>School f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5T14:20:31Z</dcterms:created>
  <dc:creator>Fabrikam</dc:creator>
  <dc:description/>
  <dc:language>en-US</dc:language>
  <cp:lastModifiedBy>megan.rees</cp:lastModifiedBy>
  <dcterms:modified xsi:type="dcterms:W3CDTF">2009-11-04T16:25:06Z</dcterms:modified>
  <cp:revision>26</cp:revision>
  <dc:subject/>
  <dc:title>Check Writing</dc:title>
</cp:coreProperties>
</file>